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F12-E948-4A43-A7F3-AB271364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48A-30F7-4DE6-885E-DC059D32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E5E-5286-41D4-BAAC-E2A98911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1E9-6D0A-4DA4-82AE-0DC5BF24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752-798B-483A-AE85-B70BAFDD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616-7A94-477E-A87E-28ABA9CC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96F-A228-4F21-AE2C-82616E29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383-9F7C-404F-8F26-8D069BFD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5C7-0DDF-459B-B250-F2DC26F0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272-C543-4ED6-A52B-A020CAAC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E7F-4E56-43F7-888D-AA0EB71D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743-8AFD-4CFE-BEC4-91A91F61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7A41-9089-4E28-A5B5-51DD12F7A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a a II-a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gidia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amna dobroge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a   E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eteni necuvanta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i dib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etenia culor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eneri in bucu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29:13Z</dcterms:created>
  <dc:creator>MXG</dc:creator>
  <dc:description/>
  <dc:language>en-US</dc:language>
  <cp:lastModifiedBy>MXG</cp:lastModifiedBy>
  <dcterms:modified xsi:type="dcterms:W3CDTF">2012-12-02T11:48:24Z</dcterms:modified>
  <cp:revision>3</cp:revision>
  <dc:subject/>
  <dc:title>Clasa a II-a A Medgidia  </dc:title>
</cp:coreProperties>
</file>